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DBE-1492-4F5E-A67F-9E18DFB8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22A-20F0-45A5-AD98-8F39C8C9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3FE-ACCC-4FA2-B34C-B35E3A77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C4D-E8CE-45F9-9A0B-D750521D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A5B-6DB0-49E5-861D-EB0BE2D5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945-B434-4117-8B84-463FF0C7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3BD-54A1-4E46-A8D9-6977F4C6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9D4-FF07-4E29-95DF-AC2F85C7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420-D878-429C-8E13-6D504053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0BE-2A2E-4D24-A705-FA94A552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271-72B7-4D7B-A90A-3DBCE706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17F-4741-4D50-8903-0191BAE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FA13-34F6-4CC7-9290-AEFB3DE5F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هو ملك المجد كيف ندعوه   هو من به كل الشعب موع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كلِّ الأرضِ ذاع مجد فادينا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لساكن بيننا بلمسةٍ يشف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حياته لمنحه الخلاص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هو حامل كل خطايا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قام ألهنا فقهر الخطيئة 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من السماء رؤية جدي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4:16:19Z</dcterms:created>
  <dc:creator>USER</dc:creator>
  <dc:description/>
  <dc:language>en-US</dc:language>
  <cp:lastModifiedBy>USER</cp:lastModifiedBy>
  <dcterms:modified xsi:type="dcterms:W3CDTF">2003-02-08T07:35:43Z</dcterms:modified>
  <cp:revision>2</cp:revision>
  <dc:subject/>
  <dc:title>PowerPoint Presentation</dc:title>
</cp:coreProperties>
</file>